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CEA25-590B-48CA-B4C8-11F92B32B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A1802-C036-46A8-AB42-F0F53B67A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CEBF2-7AFC-4EC1-9981-FD7B4671B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885-600F-4B69-866B-B0340AED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622-8E6F-4309-B569-72F7183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8E675-2D92-42F8-A3DF-DD74FDC8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B4A00-4ABA-41ED-811C-5781BC97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7A35D-638E-41E3-A1E1-F1810266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E9813-0192-426F-AF2F-1283810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28DE7-E3ED-4F6D-B39D-D0E5D809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8929-0227-4C0E-B39C-3BD1BB15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904C9-9B66-4F66-B49A-5CEF29A1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538C8-AE17-48C9-B95B-B22E0BE5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4ED5C-920B-4100-9136-C7771B14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BC9-5CA9-4349-9E6F-988C04B1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6A6-3E4A-4F2B-B9A2-612F233D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3E40-5FEB-43CF-B076-6BBF0014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4322-C7E0-4F99-881B-B13053C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4FCB-5914-4F62-8DB7-B9F4131B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6D93-6111-4F71-85BA-C61D58E1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B816-C5D1-401D-BB71-E0E7D45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2F71-EAD7-41CF-AEA9-CE2D5928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FC82-D972-41FD-BF2D-45D5D36C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27D-BFCA-4B27-92AE-3D31B20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3642-37F9-4E25-B20F-7AB4AE5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2C83-751A-4076-AD3E-939A4C6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7F2C-CF76-46F8-B8A8-74958077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46A9-1EEB-48DA-B4ED-404DE448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5D0D-3407-4E14-8611-042FD18E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EFC86-43CB-4A7E-A853-BC0BCDCE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A658-43C0-4E5C-8888-42AA366C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6088-4F5E-410F-9349-A9F915D4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5D0A-00E7-4A62-9194-A905BB1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3587-23C7-4B20-9C1A-F05DC61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61D-C1A7-484B-B017-6EB39F1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92EC-F3BD-44CE-B22F-230EDDDC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71F8-BD1E-4C24-8181-D26238B2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86A2-0C5D-4C59-9E8D-850436E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0B3C-98B5-411E-8251-19590088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4233-8A85-4013-8F1D-2FDD5CC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9F56-EA23-442E-9B84-4849A99B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6311-7157-4B1A-9326-9D7683E0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1D44-103A-42FE-9238-64C34524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8B9C-436E-4239-BF71-32414D5A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EDAF-C79A-4766-A64A-090F2F7F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234-513E-41CE-A724-C55F6FE7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DB6B-1ED8-438A-AB27-B745665A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ED44-51E5-486B-8EFF-1B94298A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74712-AF40-4C07-9756-A96E0CDC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6E44-70AB-4C48-A0AE-78FA544C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E8A4-33E2-4E50-8CC4-8CFE2D14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AFC5A-58E1-47CB-B1C0-B8CC5E8B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FAAB-2A2A-43EA-B37F-0E8F5491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F05F9-6DAC-4645-9DE1-3132C037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8F65-ADFC-48D8-A4B1-8BBA1AB2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9D0B3-8D8C-4249-BD30-BA106110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15B-8109-4DCA-9F21-E58200A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815DB-F1F7-4956-A0C1-9F933838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8992D-B0F6-4B4C-BD5C-F6C6A68B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5588-F342-41DE-B6C1-6155707D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EA27-C27B-49A0-A3DA-FA80F552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F1299-E227-487B-B38D-31A6F70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5157-4204-4D60-9F10-5A36F6D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5606-5D5E-4AB5-A30F-D54D236C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E7C8-5925-4F5C-96B2-FB4083D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668F-D85A-4A6D-ADCA-5F0C6356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6D30-1175-4A1B-A744-11E293C5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DDC-F3CE-4B07-A997-B34CC707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9A25-F7F5-4E19-B55E-EF821724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B6EC6-8FE3-488D-8BDD-CA2975CC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9A291-BDB6-41D9-BB5D-FCD5C6BB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A06ED-9FC5-4834-B06E-74FB89CC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759A0-11D5-4C8B-8D99-EDE7C3E2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5DC05-8F46-4090-8016-8E693EE4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0C99-B3E2-47EF-9F5D-1B8F001A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FFFAC-4BA4-4D22-8D77-4729E89F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6562-90C8-4025-8799-D750C34D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AC2C5-EC24-4B55-AB3F-C5857CDE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3B6-C59B-4909-9CE8-473E5D5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CEAD-36DC-4787-99C0-7ABF9288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40DF9-2F22-44AB-9B3D-FFE70EE8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D13FB-01BE-4250-A629-8D0F0864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D2530-B92D-4920-844B-2564AA64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B9F78-C5B9-48E9-818B-751E1B4A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0B04-871B-428E-A0B0-6D4C424D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F3C92-7F1F-423E-8EAA-50AB2C94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24C83-4993-4AA2-90F6-00ECCB31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2DA25-11B2-4FDC-BAB4-8F5C40D3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F2B81-2B22-43EA-9E9E-2A8B6FC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14E-2C7E-44AA-A2E4-48E61AC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EE41D-A5BA-49AA-A341-AAC08726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BDED-A04E-4786-BDBF-EEC9403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E872-94FF-4E4D-9828-B685793B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BA620-FAE4-418D-AD52-58D0BBE1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D0C78-81C8-438F-B7D2-39A6F637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EA252-A86E-4B12-9B0C-25A85B39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3A02-8D78-469F-90CB-7D3CB982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C717F-7297-4D34-AE0D-034E0B55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89E2C-3ABB-477A-B739-76BAE15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7A423-3CAB-4628-927D-E0EB9D19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058-66FA-41A1-A3F9-B6F697CF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B935B-4532-45A2-A531-6D765C75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474A6-1997-4A9E-AE95-6E73E0D5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30B33-3500-473F-9B1D-2E309F0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A459D-2FA9-4C9E-9761-E53BEB8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36C3-6930-4358-A014-72030A3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BD878-7E54-41DD-A4B4-5162F0FC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510C-9959-40D6-92A1-342D747C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9E8DD-BCEB-4674-A5F2-DE9681D5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079B5-CEB1-48D6-BFAA-9FE8B4AB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9B92A-0E55-40E5-AF2A-044B158F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32679-DAE0-42A8-84FB-6D40100FC13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47600"/>
            <a:ext cx="8631360" cy="19080"/>
            <a:chOff x="512640" y="1047600"/>
            <a:chExt cx="8631360" cy="1908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47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0240"/>
            <a:ext cx="8631360" cy="17640"/>
            <a:chOff x="512640" y="5340240"/>
            <a:chExt cx="8631360" cy="1764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024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CED5E-780C-4937-8EAF-721BA1794D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47600"/>
            <a:ext cx="8631360" cy="19080"/>
            <a:chOff x="512640" y="1047600"/>
            <a:chExt cx="8631360" cy="1908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47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5CFC0-A553-4FA8-A322-A3D9C262BCB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7640"/>
            <a:chOff x="512640" y="3438360"/>
            <a:chExt cx="8631360" cy="1764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58307-DF8C-48D9-951A-4E551397C5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0200"/>
            <a:ext cx="8631360" cy="19080"/>
            <a:chOff x="512640" y="6010200"/>
            <a:chExt cx="8631360" cy="1908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02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8E9D-CB8D-4E56-BFB5-D7FB2F3DF4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B8668-6099-40C8-83E9-850193A08D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0280"/>
            <a:ext cx="8631360" cy="17640"/>
            <a:chOff x="512640" y="5840280"/>
            <a:chExt cx="8631360" cy="1764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028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34A6C-7C80-45AE-A17F-69EACD6515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08351-8C67-4185-91AE-ED4A2500143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49E87-B4B0-4324-9673-0CA4FF53E6D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460440" y="812880"/>
            <a:ext cx="821196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creasing Student Success by Integrating SLOs and Best Practices</a:t>
            </a:r>
            <a:endParaRPr b="0" lang="en-US" sz="4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60440" y="3540240"/>
            <a:ext cx="901836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 Patel 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 Statucki Kreit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L/Basic Skills English            English Department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lege of Marin                         College of Marin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nk to our Wiki site:  </a:t>
            </a:r>
            <a:r>
              <a:rPr b="1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bit.ly/Hdeghg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ionale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view of our college learning outcomes 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ry of our proces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bsite tour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lications to other department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ce of professional learning communities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L course alignment and Student Learning Outcomes (SLOs)    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LOs and classroom practices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ege-wide learning outcomes / SLOs for the General Education programs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ritten Competency 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 Critical Thinking and Problem Solv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formation Litera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 Visual Commun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cientific Reasoning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brics: 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</a:rPr>
              <a:t>http://bit.ly/HPeKta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53760"/>
            <a:ext cx="883908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9960"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99960"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 instructional practices can we use to prepare basic skills students to successfully meet college-wide SLOs?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15" name="Freeform 4"/>
          <p:cNvSpPr/>
          <p:nvPr/>
        </p:nvSpPr>
        <p:spPr>
          <a:xfrm flipV="1">
            <a:off x="4135320" y="1718640"/>
            <a:ext cx="497160" cy="601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Freeform 5"/>
          <p:cNvSpPr/>
          <p:nvPr/>
        </p:nvSpPr>
        <p:spPr>
          <a:xfrm flipV="1">
            <a:off x="4138560" y="3141000"/>
            <a:ext cx="477720" cy="655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16080" y="1306440"/>
            <a:ext cx="8912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rite proposal; solicit materials from teachers in the department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112680" y="2394000"/>
            <a:ext cx="9031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 current research, publications about new trends in the field and other schools, and conference materials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-90360" y="3846600"/>
            <a:ext cx="97646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gn the materials collected with the five college learning outcomes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Freeform 10"/>
          <p:cNvSpPr/>
          <p:nvPr/>
        </p:nvSpPr>
        <p:spPr>
          <a:xfrm flipV="1">
            <a:off x="4138560" y="4360320"/>
            <a:ext cx="520920" cy="69372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112680" y="4964040"/>
            <a:ext cx="9031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Wiki site using the collected materials: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bit.ly/Hdegh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Freeform 12"/>
          <p:cNvSpPr/>
          <p:nvPr/>
        </p:nvSpPr>
        <p:spPr>
          <a:xfrm flipV="1">
            <a:off x="4138560" y="5286240"/>
            <a:ext cx="566640" cy="790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299880" y="6164280"/>
            <a:ext cx="89838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are resources within the college and beyond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3412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your groups, look over the critical thinking outcomes and talk about 1-2 activities that you use in your classroom that could help students achieve them.  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can this type of work be applied to your own department?  Do you have similar methods for sharing resources?  Are they linked to course, program, or school-wide SLOs?  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  Contact: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h Patel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beth.patel@marin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a Statucki Kreit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cara.statucki@marin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was funded by the Basic Skills Initiative at College of Marin   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4:28:30Z</dcterms:created>
  <dc:creator>Bradley Kreit</dc:creator>
  <dc:description/>
  <dc:language>en-US</dc:language>
  <cp:lastModifiedBy>Cara Statucki</cp:lastModifiedBy>
  <cp:lastPrinted>2012-04-12T17:22:59Z</cp:lastPrinted>
  <dcterms:modified xsi:type="dcterms:W3CDTF">2012-04-12T23:51:51Z</dcterms:modified>
  <cp:revision>5</cp:revision>
  <dc:subject/>
  <dc:title>Slide 1</dc:title>
</cp:coreProperties>
</file>